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9D6-E3B9-4B3A-BBBD-11FA8B43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E64-A54F-48C3-8953-32655D46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C49-BDDB-4C08-9148-0CEC3263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CBE-9302-44EB-BE00-F07F6539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74C-9EB3-4CEF-BF2C-CA034BD8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618-DE9D-42C8-887D-3DEE5B1D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F5D-9B1E-4D92-844C-8F996686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B01-C234-4DA2-B002-4A9CF413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179-7F5B-482C-BAC3-48F2FCD9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ACA-779E-4FA6-B667-8E0546FE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1F9-FD24-4FDD-A4EB-29F15BBD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B31-DCD1-4CBD-B819-A597A6FA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B980-A54F-4484-8E04-A93822ACE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name and a picture goes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poweruser</cp:lastModifiedBy>
  <dcterms:modified xsi:type="dcterms:W3CDTF">2011-12-14T16:07:15Z</dcterms:modified>
  <cp:revision>1</cp:revision>
  <dc:subject/>
  <dc:title>Chapter 5 – India Vocabulary</dc:title>
</cp:coreProperties>
</file>